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C12-9384-42AB-B5D4-2F3ADF1A863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C19-5ADF-439E-AF73-F9F76DBA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41F4-F166-480B-93FE-2275C6A5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B3D-4948-4242-AE21-679910DC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0A5-06F2-4F0B-8399-5C4BEC7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ED8-AC8E-42C5-A2AF-920277EF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C54-F682-4CD7-B66E-F436FD60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0FC-1E0A-41B1-A990-7E4AB45D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D70-43A3-42D5-B543-3F549BA3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361-95F6-4B72-946E-56D6F3A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C24-A932-43E6-A9F0-661E060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8EA-16EE-4B1D-A4C8-83597AB7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71B-80F6-4C67-92D8-A1AF2CE7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C8D-AB00-4664-97F3-06915D58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B39-D5D4-4403-B9C8-7DEA9EE1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1EDC-4287-4DB3-96A6-02A1D2B4B91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7 Canada’s First 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h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longhouses2"/>
          <p:cNvPicPr/>
          <p:nvPr/>
        </p:nvPicPr>
        <p:blipFill>
          <a:blip r:embed="rId1"/>
          <a:stretch/>
        </p:blipFill>
        <p:spPr>
          <a:xfrm>
            <a:off x="0" y="3009960"/>
            <a:ext cx="5219640" cy="3848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6720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Long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es lived together and shared resources.  Open fires provided heat and cooking fac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Inside_Longhouse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 Long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nghouses could be 200 feet long, 20 feet wide, and 20 feet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side the longhouse, raised platforms created a second story, which was used for sleeping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ts and wood screens divided the longhouse into separate roo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 Long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419640" cy="36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8944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igw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31164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164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 Wigw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small houses, usually 8-10 feet t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made of wooden frames which are covered with woven mats and sheets of birch b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frame can be shaped like a dome, like a cone, or like a rectangle with an arched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 Wigw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ce the birch bark is in place, ropes or strips of wood are wrapped around the wigwam to hold the bark in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good houses for people who stay in the same place for months at a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gwams are not portable, but they are small and easy to bu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rctic Igl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03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680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 Arctic Igl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gloo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glu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) are sn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uses used by the Inu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Eskimos) of northern Can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gloo is dome-shaped and slightly excavated, but it is built from the snow, with large blocks of ice set in a spiral pattern and packed with snow to form the do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 Arctic Igl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gloos are good houses f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polar region, where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rth is frozen, the snow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over is deep, and there a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few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now is a good insulator, an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ense blocks of ice offer goo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otection against the arct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ind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68840" y="1413000"/>
            <a:ext cx="3575160" cy="28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7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earning Goals for This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ok at population patterns of Aboriginal Peo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land claims are changing the future for Canada’s first nations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fficulties of building human systems in Nunav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original Traditional Hou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p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143160" cy="390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6796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Tep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tepee is made of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e-shaped wooden fr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th a covering of buffalo h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ke modern tents, tepe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carefully designed to s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p and break down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508720" y="3573360"/>
            <a:ext cx="35146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Tep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a tribe moved from p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place, each family wou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ring their tipi poles and h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nt along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pees are good houses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ho are always o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097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Tep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were fewer trees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Great Plains than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oodlands, so it was import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Plains tribes to carry the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ng poles with them whene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traveled instead of tr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find new ones each time th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v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904000" y="2492280"/>
            <a:ext cx="32400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boriginal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eople w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descend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rom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habitants of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Canada Aboriginal Peoples are generally divided into three groups (First Nations, Inuit, Me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708360" y="1197000"/>
            <a:ext cx="5283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First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ers to all Aboriginal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cept Metis 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ada wh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uth of the Arc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ast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42847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Status In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person who is registered as an Indian under the Indian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6480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Non-Status In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Indian person who is not registered under the Indian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reaty In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irst Nations people who belong to a First Nation that signed a treaty with the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se people are the people who live in the Arctic region of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3573360"/>
            <a:ext cx="395928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erm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Me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scendants of European Fur traders and explorers who married First Nations Peo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2952720" cy="33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456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4:04:34Z</dcterms:created>
  <dc:creator>Jason</dc:creator>
  <dc:description/>
  <dc:language>en-US</dc:language>
  <cp:lastModifiedBy>Jason</cp:lastModifiedBy>
  <dcterms:modified xsi:type="dcterms:W3CDTF">2011-05-12T15:32:11Z</dcterms:modified>
  <cp:revision>9</cp:revision>
  <dc:subject/>
  <dc:title>3.7 Canada’s First Nations</dc:title>
</cp:coreProperties>
</file>